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7D75-5166-41C8-A744-137CA174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D227-7BFF-4175-8017-37F8899D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7B0B-65EA-48D7-8A67-97067A84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93B6-E52F-4565-922E-47AF05B8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1D70-C50B-4539-B020-B530F73B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5210-3040-46A7-A6D6-96FC43CC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7934-CCFA-474F-8416-FB4EA5AF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A80F-8B4E-4233-A81F-E3B97B86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2348-19F5-493D-8BE4-E288AD80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6DAF-064A-40EB-AEDD-1481DEF1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1FCD-9CCB-4A8A-BFD9-D1F1B32A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E3CC-81BF-4987-B607-CBE16986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98DC-809A-4A48-A442-D2B6EE4999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152280"/>
            <a:ext cx="899172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After that it still took seven years </a:t>
            </a:r>
            <a:r>
              <a:rPr b="1" lang="zh-CN" sz="2400" spc="-1" strike="noStrike">
                <a:solidFill>
                  <a:srgbClr val="fc3000"/>
                </a:solidFill>
                <a:latin typeface="Times New Roman"/>
              </a:rPr>
              <a:t>befo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hey finally go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fore….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才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等…就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不多久）就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宁愿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不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.g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 was not long before they got married.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276720"/>
            <a:ext cx="7543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会议还没结束，他就离开了会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3809880"/>
            <a:ext cx="7619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 left before the meeting end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93704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We hadn’t wait long before the bus c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4419720"/>
            <a:ext cx="762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们没等多久，汽车就来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54864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宁愿饿死，也就不行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9436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 will die of hunger before he will di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2:38:34Z</dcterms:created>
  <dc:creator>user</dc:creator>
  <dc:description/>
  <dc:language>en-US</dc:language>
  <cp:lastModifiedBy>user</cp:lastModifiedBy>
  <dcterms:modified xsi:type="dcterms:W3CDTF">2003-09-18T02:44:14Z</dcterms:modified>
  <cp:revision>4</cp:revision>
  <dc:subject/>
  <dc:title>PowerPoint 演示文稿</dc:title>
</cp:coreProperties>
</file>